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8AF6-112D-4524-90F2-270C6B436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nding of enterotoxin  in plasma membrane of intestinal cells causes diarrhea with depression of water absorption from the intestine due to resulting altered transport of chloride and other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nsitive radioimmunoassay (RIA) and enzyme immunoassay (EIA) methods for assay have enabled accurate and specific measurements of hormones le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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one hormone can affect a given cell typ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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 can exert many different effects in one cell or in different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ding to proteins helps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reservo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hormones clea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3D2-0FFB-4D07-B83A-7B611822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937-1984-4507-BC11-54AB54AD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E8E-EB29-472F-A93B-68F44015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DCC-E551-49DF-9C97-E427A173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5E1-DCA9-421B-968E-309F53D9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A6FC-18EE-4FCF-9F10-C14B097D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809-361A-4C3A-809C-BAEA9A5C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354-4685-4D46-93EF-935B08AF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083-B45F-4F85-8E84-CA89835A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C5F-AEE3-40DE-8D34-492F01D6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A5D-8B49-47DB-B778-D4BA9855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518B-7F78-4455-BBC0-E3A09BE4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9D70-B2CA-4E86-8910-0FEEDD7CFF1C}" type="slidenum">
              <a:rPr b="0" lang="ar-E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857240"/>
            <a:ext cx="7772400" cy="147024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mbria"/>
              </a:rPr>
              <a:t>Mechanisms of hormone a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14680" y="3714480"/>
            <a:ext cx="54720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Cambria"/>
              </a:rPr>
              <a:t>Endocrine 4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:\lippincot photos\c28\28_020.jpg"/>
          <p:cNvPicPr/>
          <p:nvPr/>
        </p:nvPicPr>
        <p:blipFill>
          <a:blip r:embed="rId1"/>
          <a:srcRect l="30551" t="-3332" r="32320" b="0"/>
          <a:stretch/>
        </p:blipFill>
        <p:spPr>
          <a:xfrm>
            <a:off x="3071880" y="2143080"/>
            <a:ext cx="3143160" cy="3143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Example of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ambria"/>
              </a:rPr>
              <a:t>Group I</a:t>
            </a: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 hormones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: </a:t>
            </a:r>
            <a:br>
              <a:rPr sz="2800"/>
            </a:br>
            <a:r>
              <a:rPr b="1" i="1" lang="en-US" sz="2800" spc="-1" strike="noStrike">
                <a:solidFill>
                  <a:srgbClr val="0070c0"/>
                </a:solidFill>
                <a:latin typeface="Cambria"/>
              </a:rPr>
              <a:t>Retinoic acid </a:t>
            </a:r>
            <a:br>
              <a:rPr sz="2800"/>
            </a:br>
            <a:r>
              <a:rPr b="1" i="1" lang="en-US" sz="2000" spc="-1" strike="noStrike">
                <a:solidFill>
                  <a:srgbClr val="0070c0"/>
                </a:solidFill>
                <a:latin typeface="Cambria"/>
              </a:rPr>
              <a:t>(active product of vitamin 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796320" y="3500280"/>
            <a:ext cx="166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cl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6"/>
          <p:cNvCxnSpPr/>
          <p:nvPr/>
        </p:nvCxnSpPr>
        <p:spPr>
          <a:xfrm flipV="1">
            <a:off x="2356920" y="3286080"/>
            <a:ext cx="164412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List of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mbria"/>
              </a:rPr>
              <a:t>Group I </a:t>
            </a: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hyroid horm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Steroid hormon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                    </a:t>
            </a: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Glucocorticoids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(e.g. cortisol hormo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                          </a:t>
            </a: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Mineralocorticoids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(e.g. aldestero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                          </a:t>
            </a: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Androgens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(e.g. testosterone hormo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                          </a:t>
            </a: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Estrog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                          </a:t>
            </a: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Progestins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(e.g. progesterone hormo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Retinoic acid </a:t>
            </a:r>
            <a:r>
              <a:rPr b="0" lang="en-US" sz="2400" spc="-1" strike="noStrike">
                <a:solidFill>
                  <a:srgbClr val="0070c0"/>
                </a:solidFill>
                <a:latin typeface="Cambria"/>
              </a:rPr>
              <a:t>(active metabolite of vitamin 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Calcitriol </a:t>
            </a:r>
            <a:r>
              <a:rPr b="0" lang="en-US" sz="2400" spc="-1" strike="noStrike">
                <a:solidFill>
                  <a:srgbClr val="0070c0"/>
                </a:solidFill>
                <a:latin typeface="Cambria"/>
              </a:rPr>
              <a:t>(1, 25 DHCC, active metabolite of vitamin 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57120" y="1599840"/>
            <a:ext cx="8501040" cy="49719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Hormones that bind to </a:t>
            </a:r>
            <a:r>
              <a:rPr b="1" lang="en-US" sz="1500" spc="-1" strike="noStrike">
                <a:solidFill>
                  <a:srgbClr val="0070c0"/>
                </a:solidFill>
                <a:latin typeface="Cambria"/>
              </a:rPr>
              <a:t>plasma membrane (extra-cellular) receptors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1- </a:t>
            </a:r>
            <a:r>
              <a:rPr b="1" lang="en-US" sz="1500" spc="-1" strike="noStrike">
                <a:solidFill>
                  <a:srgbClr val="0070c0"/>
                </a:solidFill>
                <a:latin typeface="Cambria"/>
              </a:rPr>
              <a:t>Solubility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: hydrophili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2- </a:t>
            </a:r>
            <a:r>
              <a:rPr b="1" lang="en-US" sz="1500" spc="-1" strike="noStrike">
                <a:solidFill>
                  <a:srgbClr val="0070c0"/>
                </a:solidFill>
                <a:latin typeface="Cambria"/>
              </a:rPr>
              <a:t>Chemical composition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: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     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Polypeptides, proteins, glycoproteins &amp; catecholamin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3- </a:t>
            </a:r>
            <a:r>
              <a:rPr b="1" lang="en-US" sz="1500" spc="-1" strike="noStrike">
                <a:solidFill>
                  <a:srgbClr val="0070c0"/>
                </a:solidFill>
                <a:latin typeface="Cambria"/>
              </a:rPr>
              <a:t>Transport in blood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:  No transport protein- short plasma half-lif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5-</a:t>
            </a:r>
            <a:r>
              <a:rPr b="1" lang="en-US" sz="1500" spc="-1" strike="noStrike">
                <a:solidFill>
                  <a:srgbClr val="0070c0"/>
                </a:solidFill>
                <a:latin typeface="Cambria"/>
              </a:rPr>
              <a:t>Mechanism</a:t>
            </a:r>
            <a:r>
              <a:rPr b="1" lang="en-US" sz="15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en-US" sz="1500" spc="-1" strike="noStrike">
                <a:solidFill>
                  <a:srgbClr val="0070c0"/>
                </a:solidFill>
                <a:latin typeface="Cambria"/>
              </a:rPr>
              <a:t>of  action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    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Hormone binds to plasma membrane receptor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    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Hormone -receptor interaction leads to generation of </a:t>
            </a:r>
            <a:r>
              <a:rPr b="1" lang="en-US" sz="1500" spc="-1" strike="noStrike">
                <a:solidFill>
                  <a:srgbClr val="0070c0"/>
                </a:solidFill>
                <a:latin typeface="Cambria"/>
              </a:rPr>
              <a:t>second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en-US" sz="1500" spc="-1" strike="noStrike">
                <a:solidFill>
                  <a:srgbClr val="0070c0"/>
                </a:solidFill>
                <a:latin typeface="Cambria"/>
              </a:rPr>
              <a:t>messenger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  intracellularly that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    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communicates  (couples) hormones binding with intracellular metabolic  process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70c0"/>
                </a:solidFill>
                <a:latin typeface="Cambria"/>
              </a:rPr>
              <a:t>Second messengers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1- cyclic AMP (cAMP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2- cyclic GMP (cGMP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3- Calcium or phosphaitdyl inosiltol (or bot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4- Kinase cascad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501040" cy="101124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Classification of hormones according to mechanism of action:</a:t>
            </a:r>
            <a:br>
              <a:rPr sz="2500"/>
            </a:br>
            <a:r>
              <a:rPr b="1" i="1" lang="en-US" sz="4000" spc="-1" strike="noStrike">
                <a:solidFill>
                  <a:srgbClr val="ff0000"/>
                </a:solidFill>
                <a:latin typeface="Cambria"/>
              </a:rPr>
              <a:t>Group II</a:t>
            </a:r>
            <a:br>
              <a:rPr sz="25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Second Messenger: c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F:\lippincot photos\c08\08_007.jpg"/>
          <p:cNvPicPr/>
          <p:nvPr/>
        </p:nvPicPr>
        <p:blipFill>
          <a:blip r:embed="rId1"/>
          <a:srcRect l="13922" t="1473" r="9279" b="0"/>
          <a:stretch/>
        </p:blipFill>
        <p:spPr>
          <a:xfrm>
            <a:off x="611280" y="1628640"/>
            <a:ext cx="3744720" cy="50403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79" name="Picture 2" descr="C:\Users\ALWALY\Documents\lippincot photos\c11\11_012.jpg"/>
          <p:cNvPicPr/>
          <p:nvPr/>
        </p:nvPicPr>
        <p:blipFill>
          <a:blip r:embed="rId2"/>
          <a:srcRect l="26315" t="2974" r="22578" b="0"/>
          <a:stretch/>
        </p:blipFill>
        <p:spPr>
          <a:xfrm>
            <a:off x="4643280" y="1700280"/>
            <a:ext cx="3889440" cy="5157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cxnSp>
        <p:nvCxnSpPr>
          <p:cNvPr id="80" name="Straight Arrow Connector 6"/>
          <p:cNvCxnSpPr/>
          <p:nvPr/>
        </p:nvCxnSpPr>
        <p:spPr>
          <a:xfrm flipH="1">
            <a:off x="6071760" y="999720"/>
            <a:ext cx="286560" cy="1715400"/>
          </a:xfrm>
          <a:prstGeom prst="straightConnector1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Cambria"/>
              </a:rPr>
              <a:t>1- Second messenger is </a:t>
            </a:r>
            <a:r>
              <a:rPr b="1" i="1" lang="en-US" sz="2400" spc="-1" strike="noStrike" u="sng">
                <a:solidFill>
                  <a:srgbClr val="0070c0"/>
                </a:solidFill>
                <a:uFillTx/>
                <a:latin typeface="Cambria"/>
              </a:rPr>
              <a:t>cAMP</a:t>
            </a:r>
            <a:r>
              <a:rPr b="1" i="1" lang="en-US" sz="2400" spc="-1" strike="noStrike">
                <a:solidFill>
                  <a:srgbClr val="0070c0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n-US" sz="1700" spc="-1" strike="noStrike">
                <a:solidFill>
                  <a:srgbClr val="0070c0"/>
                </a:solidFill>
                <a:latin typeface="Cambria"/>
              </a:rPr>
              <a:t>2</a:t>
            </a:r>
            <a:r>
              <a:rPr b="1" lang="en-US" sz="1700" spc="-1" strike="noStrike">
                <a:solidFill>
                  <a:srgbClr val="0070c0"/>
                </a:solidFill>
                <a:latin typeface="Symbol"/>
                <a:ea typeface="Symbol"/>
              </a:rPr>
              <a:t></a:t>
            </a:r>
            <a:r>
              <a:rPr b="1" lang="en-US" sz="1700" spc="-1" strike="noStrike">
                <a:solidFill>
                  <a:srgbClr val="0070c0"/>
                </a:solidFill>
                <a:latin typeface="Cambria"/>
              </a:rPr>
              <a:t>adrenergic</a:t>
            </a:r>
            <a:r>
              <a:rPr b="1" lang="en-US" sz="1700" spc="-1" strike="noStrike">
                <a:solidFill>
                  <a:srgbClr val="0070c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Catecholami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Adrenocorticotropic Hormone (ACT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Angiotensin 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Antidiuretic Hormone  (AD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Calciton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Human Chorionic Gonadotropins (hC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Corticotropin-releasing hormone (CR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Follicle Stimulating Hormone (FS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Leutinizing Hormone (L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Glucag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Ipotropin (LP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MSH (Melanocyte Stimulating Hormon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Parathyroid Hormone (PT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Somatostat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Thyroid Stimulating Hormone (TS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List of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mbria"/>
              </a:rPr>
              <a:t>Group II </a:t>
            </a: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0c0"/>
                </a:solidFill>
                <a:latin typeface="Cambria"/>
              </a:rPr>
              <a:t>1- </a:t>
            </a:r>
            <a:r>
              <a:rPr b="1" i="1" lang="en-US" sz="2400" spc="-1" strike="noStrike">
                <a:solidFill>
                  <a:srgbClr val="0070c0"/>
                </a:solidFill>
                <a:latin typeface="Cambria"/>
              </a:rPr>
              <a:t>Second messenger is </a:t>
            </a:r>
            <a:r>
              <a:rPr b="1" i="1" lang="en-US" sz="2400" spc="-1" strike="noStrike" u="sng">
                <a:solidFill>
                  <a:srgbClr val="0070c0"/>
                </a:solidFill>
                <a:uFillTx/>
                <a:latin typeface="Cambria"/>
              </a:rPr>
              <a:t>cG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Atrial natriuretic peptide (AN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Nitric Oxide (N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There are two isoforms of guanylate cyclase involved in production of cGMP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A </a:t>
            </a: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membrane-bound </a:t>
            </a: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guanylate cyclase ( for ANP &amp; bacterial endotoxi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A </a:t>
            </a: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cytosolic </a:t>
            </a: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guanylate cyclase (for N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List of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mbria"/>
              </a:rPr>
              <a:t>Group II </a:t>
            </a: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523880" y="1649520"/>
            <a:ext cx="6477120" cy="500364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3809880" y="3352680"/>
            <a:ext cx="60984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3581280" y="2185920"/>
            <a:ext cx="60984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429000" y="1981080"/>
            <a:ext cx="1143000" cy="1828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-109800" y="2643120"/>
            <a:ext cx="28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nstantia"/>
              </a:rPr>
              <a:t>GC: Gunaylate cy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Second messenger cGMP: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Atrial Natriuretic Pep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9"/>
          <p:cNvCxnSpPr/>
          <p:nvPr/>
        </p:nvCxnSpPr>
        <p:spPr>
          <a:xfrm>
            <a:off x="1714680" y="2928600"/>
            <a:ext cx="2071800" cy="214920"/>
          </a:xfrm>
          <a:prstGeom prst="straightConnector1">
            <a:avLst/>
          </a:prstGeom>
          <a:ln w="38160">
            <a:solidFill>
              <a:srgbClr val="4a7ebb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NO signaling"/>
          <p:cNvPicPr/>
          <p:nvPr/>
        </p:nvPicPr>
        <p:blipFill>
          <a:blip r:embed="rId1"/>
          <a:stretch/>
        </p:blipFill>
        <p:spPr>
          <a:xfrm>
            <a:off x="0" y="700200"/>
            <a:ext cx="6934320" cy="5850000"/>
          </a:xfrm>
          <a:prstGeom prst="rect">
            <a:avLst/>
          </a:prstGeom>
          <a:ln w="0">
            <a:noFill/>
          </a:ln>
        </p:spPr>
      </p:pic>
      <p:sp>
        <p:nvSpPr>
          <p:cNvPr id="94" name="Oval 3"/>
          <p:cNvSpPr/>
          <p:nvPr/>
        </p:nvSpPr>
        <p:spPr>
          <a:xfrm>
            <a:off x="3505320" y="2046240"/>
            <a:ext cx="13716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"/>
          <p:cNvSpPr/>
          <p:nvPr/>
        </p:nvSpPr>
        <p:spPr>
          <a:xfrm>
            <a:off x="3276720" y="5987880"/>
            <a:ext cx="121896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"/>
          <p:cNvSpPr/>
          <p:nvPr/>
        </p:nvSpPr>
        <p:spPr>
          <a:xfrm>
            <a:off x="3733920" y="362592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673680" y="1066680"/>
            <a:ext cx="247032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ri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nt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ds to heme moiety of guanylate cycl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ational change of the enzy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activity (production of cGM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ulation of activity of other proteins (protein kinases, phospho-diesterases, ion chann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ological response (relaxation of smooth muscles, inhibition of platelet aggregation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7738920" y="1380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7738920" y="19144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7738920" y="2600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7738920" y="33624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7738920" y="3971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777240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609480" y="152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NO• signaling in 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6400800" y="16002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-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>
            <a:off x="6934320" y="17524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8077320" y="17524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8305920" y="1600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O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F:\lippincot photos\c17\17_008.jpg"/>
          <p:cNvPicPr/>
          <p:nvPr/>
        </p:nvPicPr>
        <p:blipFill>
          <a:blip r:embed="rId1"/>
          <a:stretch/>
        </p:blipFill>
        <p:spPr>
          <a:xfrm>
            <a:off x="1357200" y="1571760"/>
            <a:ext cx="6429600" cy="48114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Second Messenger: Phosphatidyl inositol &amp; 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calc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5"/>
          <p:cNvCxnSpPr/>
          <p:nvPr/>
        </p:nvCxnSpPr>
        <p:spPr>
          <a:xfrm flipH="1">
            <a:off x="4714200" y="1071360"/>
            <a:ext cx="572040" cy="1286280"/>
          </a:xfrm>
          <a:prstGeom prst="straightConnector1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112" name="Straight Arrow Connector 8"/>
          <p:cNvCxnSpPr/>
          <p:nvPr/>
        </p:nvCxnSpPr>
        <p:spPr>
          <a:xfrm flipH="1">
            <a:off x="6643800" y="1071360"/>
            <a:ext cx="643320" cy="1572120"/>
          </a:xfrm>
          <a:prstGeom prst="straightConnector1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1- </a:t>
            </a:r>
            <a:r>
              <a:rPr b="1" i="1" lang="en-US" sz="2400" spc="-1" strike="noStrike">
                <a:solidFill>
                  <a:srgbClr val="0070c0"/>
                </a:solidFill>
                <a:latin typeface="Cambria"/>
              </a:rPr>
              <a:t>Second messenger is </a:t>
            </a:r>
            <a:r>
              <a:rPr b="1" i="1" lang="en-US" sz="2400" spc="-1" strike="noStrike" u="sng">
                <a:solidFill>
                  <a:srgbClr val="0070c0"/>
                </a:solidFill>
                <a:uFillTx/>
                <a:latin typeface="Cambria"/>
              </a:rPr>
              <a:t>phosphatidyl inositol or calcium  </a:t>
            </a:r>
            <a:r>
              <a:rPr b="1" i="1" lang="en-US" sz="2400" spc="-1" strike="noStrike">
                <a:solidFill>
                  <a:srgbClr val="0070c0"/>
                </a:solidFill>
                <a:latin typeface="Cambria"/>
              </a:rPr>
              <a:t>(or both togeth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Acetylcholin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1 adrenergic catecholami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Angiotensin 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Antideuretic Hormone (AD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Cholecystokin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Gastr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Gonadotropin –Releasing  Hormone (GnR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Oxytoc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Platelet Derived Growth Factor (PDG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Substance 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Thyrotropin Releasing Hormone  (TR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List of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mbria"/>
              </a:rPr>
              <a:t>Group II </a:t>
            </a: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429760" cy="11430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ambria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120" y="1600200"/>
            <a:ext cx="8501040" cy="4525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Defining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 hormones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and their 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classification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Listing the 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general characteristics of hormon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Identifying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 factors determining the response of target cells to hormon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Describing the 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different mechanisms of action of hormon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Listing hormones that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 bind to cell surface receptor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Listing hormones that 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bind to intracellular receptor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ALWALY\Documents\lippincot photos\c23\23_007.jpg"/>
          <p:cNvPicPr/>
          <p:nvPr/>
        </p:nvPicPr>
        <p:blipFill>
          <a:blip r:embed="rId1"/>
          <a:stretch/>
        </p:blipFill>
        <p:spPr>
          <a:xfrm>
            <a:off x="3929040" y="1698480"/>
            <a:ext cx="4786200" cy="51595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57120" y="1785960"/>
            <a:ext cx="471492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Binding</a:t>
            </a: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of insulin on </a:t>
            </a:r>
            <a:r>
              <a:rPr b="1" lang="en-US" sz="14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-sub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Of insulin recep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Phosphory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of </a:t>
            </a:r>
            <a:r>
              <a:rPr b="1" lang="en-US" sz="1400" spc="-1" strike="noStrike">
                <a:solidFill>
                  <a:srgbClr val="0070c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-sub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Of insulin recep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Phosphory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of insulin response substrates (IRS)</a:t>
            </a: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IN</a:t>
            </a: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     </a:t>
            </a: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Gene                             Metabolism           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6"/>
          <p:cNvCxnSpPr/>
          <p:nvPr/>
        </p:nvCxnSpPr>
        <p:spPr>
          <a:xfrm flipH="1">
            <a:off x="2499480" y="250020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8"/>
          <p:cNvCxnSpPr/>
          <p:nvPr/>
        </p:nvCxnSpPr>
        <p:spPr>
          <a:xfrm flipH="1">
            <a:off x="2571480" y="335772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10"/>
          <p:cNvCxnSpPr/>
          <p:nvPr/>
        </p:nvCxnSpPr>
        <p:spPr>
          <a:xfrm flipH="1">
            <a:off x="2571480" y="421452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0" name="Straight Arrow Connector 12"/>
          <p:cNvCxnSpPr/>
          <p:nvPr/>
        </p:nvCxnSpPr>
        <p:spPr>
          <a:xfrm flipH="1">
            <a:off x="1142640" y="5143680"/>
            <a:ext cx="128664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1" name="Straight Arrow Connector 14"/>
          <p:cNvCxnSpPr/>
          <p:nvPr/>
        </p:nvCxnSpPr>
        <p:spPr>
          <a:xfrm>
            <a:off x="2642040" y="521460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2" name="Straight Arrow Connector 16"/>
          <p:cNvCxnSpPr/>
          <p:nvPr/>
        </p:nvCxnSpPr>
        <p:spPr>
          <a:xfrm>
            <a:off x="2857320" y="5214960"/>
            <a:ext cx="11437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Second Messenger: Kinase cascad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           (for insulin hormone)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Cambria"/>
              </a:rPr>
              <a:t>1- Second messenger is </a:t>
            </a:r>
            <a:r>
              <a:rPr b="1" i="1" lang="en-US" sz="2400" spc="-1" strike="noStrike" u="sng">
                <a:solidFill>
                  <a:srgbClr val="0070c0"/>
                </a:solidFill>
                <a:uFillTx/>
                <a:latin typeface="Cambria"/>
              </a:rPr>
              <a:t>kinase cascade</a:t>
            </a:r>
            <a:r>
              <a:rPr b="1" i="1" lang="en-US" sz="2400" spc="-1" strike="noStrike">
                <a:solidFill>
                  <a:srgbClr val="0070c0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Chorionic somatomammotropin (C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Epidermal Growth factor (EG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Erythropoeitin  (EP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Antideuretic Hormone (AD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Fibroblast Growth Factors (FG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Growth Hormone (G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Insul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Insulin-like Growth factors (IGF-I &amp; IGF-II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Nerve Growth Factor (NG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Platelet Derived Growth Factor (PDG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Prolactin (PR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List of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mbria"/>
              </a:rPr>
              <a:t>Group II </a:t>
            </a: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General characteristics of horm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70c0"/>
                </a:solidFill>
                <a:latin typeface="Cambria"/>
              </a:rPr>
              <a:t>Hormones</a:t>
            </a:r>
            <a:r>
              <a:rPr b="0" i="1" lang="en-US" sz="3700" spc="-1" strike="noStrike">
                <a:solidFill>
                  <a:srgbClr val="0070c0"/>
                </a:solidFill>
                <a:latin typeface="Cambria"/>
              </a:rPr>
              <a:t> 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are molecules that are produced by </a:t>
            </a:r>
            <a:r>
              <a:rPr b="1" lang="en-US" sz="1900" spc="-1" strike="noStrike">
                <a:solidFill>
                  <a:srgbClr val="0070c0"/>
                </a:solidFill>
                <a:latin typeface="Cambria"/>
              </a:rPr>
              <a:t>special cells  </a:t>
            </a: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(</a:t>
            </a:r>
            <a:r>
              <a:rPr b="0" lang="en-US" sz="1900" spc="-1" strike="noStrike" u="sng">
                <a:solidFill>
                  <a:srgbClr val="0070c0"/>
                </a:solidFill>
                <a:uFillTx/>
                <a:latin typeface="Cambria"/>
              </a:rPr>
              <a:t>not</a:t>
            </a: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 by all cells of the bod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are secreted </a:t>
            </a:r>
            <a:r>
              <a:rPr b="1" lang="en-US" sz="1900" spc="-1" strike="noStrike">
                <a:solidFill>
                  <a:srgbClr val="0070c0"/>
                </a:solidFill>
                <a:latin typeface="Cambria"/>
              </a:rPr>
              <a:t>directly to blood </a:t>
            </a: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(with no duct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are available </a:t>
            </a:r>
            <a:r>
              <a:rPr b="1" lang="en-US" sz="1900" spc="-1" strike="noStrike">
                <a:solidFill>
                  <a:srgbClr val="0070c0"/>
                </a:solidFill>
                <a:latin typeface="Cambria"/>
              </a:rPr>
              <a:t>in very low concentrations in bloo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are transported in blood to </a:t>
            </a:r>
            <a:r>
              <a:rPr b="1" lang="en-US" sz="1900" spc="-1" strike="noStrike">
                <a:solidFill>
                  <a:srgbClr val="0070c0"/>
                </a:solidFill>
                <a:latin typeface="Cambria"/>
              </a:rPr>
              <a:t>work in distant sit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have </a:t>
            </a:r>
            <a:r>
              <a:rPr b="1" lang="en-US" sz="1900" spc="-1" strike="noStrike">
                <a:solidFill>
                  <a:srgbClr val="0070c0"/>
                </a:solidFill>
                <a:latin typeface="Cambria"/>
              </a:rPr>
              <a:t>systemic a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have </a:t>
            </a:r>
            <a:r>
              <a:rPr b="1" lang="en-US" sz="1900" spc="-1" strike="noStrike">
                <a:solidFill>
                  <a:srgbClr val="0070c0"/>
                </a:solidFill>
                <a:latin typeface="Cambria"/>
              </a:rPr>
              <a:t>specific</a:t>
            </a: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en-US" sz="1900" spc="-1" strike="noStrike">
                <a:solidFill>
                  <a:srgbClr val="0070c0"/>
                </a:solidFill>
                <a:latin typeface="Cambria"/>
              </a:rPr>
              <a:t>receptors</a:t>
            </a: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  (either intra- or extra-cellular ) in target tissu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have different </a:t>
            </a:r>
            <a:r>
              <a:rPr b="1" lang="en-US" sz="1900" spc="-1" strike="noStrike">
                <a:solidFill>
                  <a:srgbClr val="0070c0"/>
                </a:solidFill>
                <a:latin typeface="Cambria"/>
              </a:rPr>
              <a:t>special</a:t>
            </a: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en-US" sz="1900" spc="-1" strike="noStrike">
                <a:solidFill>
                  <a:srgbClr val="0070c0"/>
                </a:solidFill>
                <a:latin typeface="Cambria"/>
              </a:rPr>
              <a:t>mechanisms of a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mbria"/>
              </a:rPr>
              <a:t>Receptors of horm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Hormones are present in very low concentrations in extracellular fluids (e.g. blood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In order to initiate their biologic effects, target cells must recognize hormones by binding to specific receptor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A </a:t>
            </a: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target cell 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is defined by its ability to bind selectively a given hormone via a recept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Receptors have at least </a:t>
            </a:r>
            <a:r>
              <a:rPr b="1" lang="en-US" sz="1600" spc="-1" strike="noStrike" u="sng">
                <a:solidFill>
                  <a:srgbClr val="0070c0"/>
                </a:solidFill>
                <a:uFillTx/>
                <a:latin typeface="Cambria"/>
              </a:rPr>
              <a:t>2 DOMAINS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        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1- </a:t>
            </a: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Recognition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domain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: binds to the horm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        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2- </a:t>
            </a: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Coupling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domain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: couples hormone recognition to some  intracellular function b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             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generating a sig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70c0"/>
                </a:solidFill>
                <a:uFillTx/>
                <a:latin typeface="Cambria"/>
              </a:rPr>
              <a:t>Generally, COUPLING occurs by two way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1- Polypeptide hormones, protein hormones &amp; catecholamines  binding of hormones 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     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plasma membrane receptors (</a:t>
            </a:r>
            <a:r>
              <a:rPr b="0" lang="en-US" sz="1600" spc="-1" strike="noStrike" u="sng">
                <a:solidFill>
                  <a:srgbClr val="0070c0"/>
                </a:solidFill>
                <a:uFillTx/>
                <a:latin typeface="Cambria"/>
              </a:rPr>
              <a:t>extracellular receptors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2- Steroid &amp; thyroid hormones interact with </a:t>
            </a:r>
            <a:r>
              <a:rPr b="0" lang="en-US" sz="1600" spc="-1" strike="noStrike" u="sng">
                <a:solidFill>
                  <a:srgbClr val="0070c0"/>
                </a:solidFill>
                <a:uFillTx/>
                <a:latin typeface="Cambria"/>
              </a:rPr>
              <a:t>intracellular</a:t>
            </a:r>
            <a:r>
              <a:rPr b="0" lang="en-US" sz="1600" spc="-1" strike="noStrike" u="sng">
                <a:solidFill>
                  <a:srgbClr val="0070c0"/>
                </a:solidFill>
                <a:uFillTx/>
                <a:latin typeface="Cambria"/>
              </a:rPr>
              <a:t> </a:t>
            </a:r>
            <a:r>
              <a:rPr b="0" lang="en-US" sz="1600" spc="-1" strike="noStrike" u="sng">
                <a:solidFill>
                  <a:srgbClr val="0070c0"/>
                </a:solidFill>
                <a:uFillTx/>
                <a:latin typeface="Cambria"/>
              </a:rPr>
              <a:t>receptors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, form complexes tha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     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generates a sig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Cambria"/>
              </a:rPr>
              <a:t>1-Rate of production:</a:t>
            </a: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   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Synthesis and secretion of hormones are the most highly regula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   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aspect of endocrine control. Such control is mediated by positive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   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negative feedback circu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928960" y="3786120"/>
            <a:ext cx="3143160" cy="2222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The concentration of hormone as seen by target cells is determined by three factors</a:t>
            </a: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Cambria"/>
              </a:rPr>
              <a:t>2-Rate of delivery</a:t>
            </a: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  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An example of this effect is blood flow to a target organ or group of target cells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  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high blood flow delivers more hormone than low blood flow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Cambria"/>
              </a:rPr>
              <a:t>3-Rate of degradation and elimination:</a:t>
            </a: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   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Hormones, like all biomolecules, have characteristic rates of decay, and a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   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metabolized and excreted from the body through several rout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70c0"/>
                </a:solidFill>
                <a:uFillTx/>
                <a:latin typeface="Cambria"/>
              </a:rPr>
              <a:t>Hormones are cleared by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1- Metabolic destruction by t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2- Binding with t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3- Excretion by the liver into b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4- Excretion by the kidney into 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5- Clearance of protein bound hormones is slower than clearance of peptid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horm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The concentration of hormone as seen by target cells is determined by three factors: </a:t>
            </a:r>
            <a:r>
              <a:rPr b="0" i="1" lang="en-US" sz="2000" spc="-1" strike="noStrike">
                <a:solidFill>
                  <a:srgbClr val="ff0000"/>
                </a:solidFill>
                <a:latin typeface="Cambria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Classifications of horm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Cambria"/>
              </a:rPr>
              <a:t>Hormones are classified </a:t>
            </a:r>
            <a:r>
              <a:rPr b="1" i="1" lang="en-US" sz="2400" spc="-1" strike="noStrike" u="sng">
                <a:solidFill>
                  <a:srgbClr val="0070c0"/>
                </a:solidFill>
                <a:uFillTx/>
                <a:latin typeface="Cambria"/>
              </a:rPr>
              <a:t>according</a:t>
            </a:r>
            <a:r>
              <a:rPr b="1" i="1" lang="en-US" sz="2400" spc="-1" strike="noStrike">
                <a:solidFill>
                  <a:srgbClr val="0070c0"/>
                </a:solidFill>
                <a:latin typeface="Cambria"/>
              </a:rPr>
              <a:t> to</a:t>
            </a: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1-  </a:t>
            </a:r>
            <a:r>
              <a:rPr b="1" i="1" lang="en-US" sz="2000" spc="-1" strike="noStrike" u="sng">
                <a:solidFill>
                  <a:srgbClr val="0070c0"/>
                </a:solidFill>
                <a:uFillTx/>
                <a:latin typeface="Cambria"/>
              </a:rPr>
              <a:t>Chemical</a:t>
            </a:r>
            <a:r>
              <a:rPr b="1" i="1" lang="en-US" sz="2000" spc="-1" strike="noStrike">
                <a:solidFill>
                  <a:srgbClr val="0070c0"/>
                </a:solidFill>
                <a:latin typeface="Cambria"/>
              </a:rPr>
              <a:t> composition 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(protein or othe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2-  </a:t>
            </a:r>
            <a:r>
              <a:rPr b="1" i="1" lang="en-US" sz="2000" spc="-1" strike="noStrike" u="sng">
                <a:solidFill>
                  <a:srgbClr val="0070c0"/>
                </a:solidFill>
                <a:uFillTx/>
                <a:latin typeface="Cambria"/>
              </a:rPr>
              <a:t>Solubility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 (hydrophilic or lipophili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3-  </a:t>
            </a:r>
            <a:r>
              <a:rPr b="1" i="1" lang="en-US" sz="2000" spc="-1" strike="noStrike" u="sng">
                <a:solidFill>
                  <a:srgbClr val="0070c0"/>
                </a:solidFill>
                <a:uFillTx/>
                <a:latin typeface="Cambria"/>
              </a:rPr>
              <a:t>Location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 of receptors (intra- or extra-cellul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4-  Nature of </a:t>
            </a:r>
            <a:r>
              <a:rPr b="1" i="1" lang="en-US" sz="2000" spc="-1" strike="noStrike" u="sng">
                <a:solidFill>
                  <a:srgbClr val="0070c0"/>
                </a:solidFill>
                <a:uFillTx/>
                <a:latin typeface="Cambria"/>
              </a:rPr>
              <a:t>signal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 used to mediate hormone action within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According to classifications 3 &amp; 4, hormones are classified in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Group I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 &amp; 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Group 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according to mechanism of action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501040" cy="101124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Classification of hormones according to mechanism of action:</a:t>
            </a:r>
            <a:br>
              <a:rPr sz="2500"/>
            </a:br>
            <a:r>
              <a:rPr b="1" i="1" lang="en-US" sz="4000" spc="-1" strike="noStrike">
                <a:solidFill>
                  <a:srgbClr val="ff0000"/>
                </a:solidFill>
                <a:latin typeface="Cambria"/>
              </a:rPr>
              <a:t>Group I</a:t>
            </a:r>
            <a:br>
              <a:rPr sz="25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7120" y="1428480"/>
            <a:ext cx="8501040" cy="5257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Hormones that bind to </a:t>
            </a: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intracellular receptors  (cytosolic or nucleus)</a:t>
            </a: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1- </a:t>
            </a: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Solubility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: lipophilic  (to pass cell membrane  which is mainly lipi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2- </a:t>
            </a: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Chemical composition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Derived from cholesterol (except: thyroid hormones &amp; retinoic aci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3- </a:t>
            </a: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Transport in blood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Associate with transport proteins (to tackle solubility proble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Long plasma half-lif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5-Mechanism of  action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1- Free hormone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traverses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plasma membrane of cells &amp; binds to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receptor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in cytosol or nucleus  of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    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target cell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2- Hormone-receptor complex binds to specific region in DNA of gene (hormone-response element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    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HRE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3- Binding causes activation or inactivation of specific gene(s) </a:t>
            </a:r>
            <a:r>
              <a:rPr b="0" lang="en-US" sz="1400" spc="-1" strike="noStrike" u="sng">
                <a:solidFill>
                  <a:srgbClr val="0070c0"/>
                </a:solidFill>
                <a:uFillTx/>
                <a:latin typeface="Cambria"/>
              </a:rPr>
              <a:t>transcription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(production of mRN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4- Accordingly, amount of </a:t>
            </a:r>
            <a:r>
              <a:rPr b="0" lang="en-US" sz="1400" spc="-1" strike="noStrike" u="sng">
                <a:solidFill>
                  <a:srgbClr val="0070c0"/>
                </a:solidFill>
                <a:uFillTx/>
                <a:latin typeface="Cambria"/>
              </a:rPr>
              <a:t>protein synthesis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(production) is changed (protein may be enzymes of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    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metabolic react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5- Accordingly,  certain metabolic processes are affect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Example of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ambria"/>
              </a:rPr>
              <a:t>Group I</a:t>
            </a: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 hormones: </a:t>
            </a:r>
            <a:br>
              <a:rPr sz="2800"/>
            </a:br>
            <a:r>
              <a:rPr b="1" i="1" lang="en-US" sz="2800" spc="-1" strike="noStrike">
                <a:solidFill>
                  <a:srgbClr val="0070c0"/>
                </a:solidFill>
                <a:latin typeface="Cambria"/>
              </a:rPr>
              <a:t>Steroid horm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F:\lippincot photos\c18\18_028.jpg"/>
          <p:cNvPicPr/>
          <p:nvPr/>
        </p:nvPicPr>
        <p:blipFill>
          <a:blip r:embed="rId1"/>
          <a:stretch/>
        </p:blipFill>
        <p:spPr>
          <a:xfrm>
            <a:off x="1785960" y="1785960"/>
            <a:ext cx="528624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1153440" y="3000240"/>
            <a:ext cx="166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ytosol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5"/>
          <p:cNvCxnSpPr>
            <a:stCxn id="67" idx="3"/>
          </p:cNvCxnSpPr>
          <p:nvPr/>
        </p:nvCxnSpPr>
        <p:spPr>
          <a:xfrm flipV="1">
            <a:off x="2833200" y="2714040"/>
            <a:ext cx="1024920" cy="70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08:43:11Z</dcterms:created>
  <dc:creator>ALWALY</dc:creator>
  <dc:description/>
  <dc:language>en-US</dc:language>
  <cp:lastModifiedBy>ALWALY</cp:lastModifiedBy>
  <dcterms:modified xsi:type="dcterms:W3CDTF">2012-09-09T17:47:59Z</dcterms:modified>
  <cp:revision>149</cp:revision>
  <dc:subject/>
  <dc:title>Slide 1</dc:title>
</cp:coreProperties>
</file>